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7B4D-8300-444C-AE9A-812FFF53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7DA5-10E1-42F9-942B-9927AAC1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DE91-47BA-45E3-9B21-0528F4C2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16B4-D254-4118-927B-D48C6E7D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0F3B-2817-42B5-8B38-AD7D9709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0784-E7C2-48A3-A91F-306FBF81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F563-6BCD-45BF-A48E-E34F8B50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9D24-61E8-4C5E-B96D-243CE743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7656-FA71-46CB-AC6D-B5B8F598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008B-6769-4029-81FB-E7FE400F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CBC4-2B41-4CAE-86C7-4951DBBE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F99-C0A9-4745-A4B8-B48E67F3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EB5F-9295-409B-B237-BB75E5F5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D71F-4945-49A1-BBF3-A7861FAF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8AF8-839B-4E60-96C0-7C8ED5BE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BF70-239F-47C8-8FD2-196064DD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09D6-FD02-4E11-9A81-7392B2C0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0BDF-CE59-4720-8F86-F0F3CAAA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3246-ECBB-4FA9-A4C8-B8611A76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F61B-52EA-4439-A341-07B8CAE1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5630-0252-447B-9D81-2A834018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086-7619-42ED-B270-4021DE1D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ECD5-81FA-452F-B183-77491508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82A2-DB4B-4D92-908F-3328C8A9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709E-9D7C-47D8-B84E-4C2FAC19066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732B-5BC4-4B63-90E1-84E8ABA5664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canadiantire.ca/intro/homepage.jsp;jsessionid=BItXJDwMF41ohgfqtjb4cFYaJoxlrlp3r9irIsU1TYEye69cEMuQ!1806054921!172915536!7205!7305?bmLocale=en&amp;bmUID=1095249303954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700" spc="-1" strike="noStrike">
                <a:solidFill>
                  <a:srgbClr val="ffffcc"/>
                </a:solidFill>
                <a:latin typeface="Arial"/>
              </a:rPr>
              <a:t>Linking Marketing to Corporate Strategies 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Chapter 2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aeaea"/>
                </a:solidFill>
                <a:latin typeface="Verdana"/>
              </a:rPr>
              <a:t>Strategic Marketing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rategic Marke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 process directed at the product and market levels so as to allocate resources to viable marketing opportuniti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Includes Planning, Implementation and Control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is process yields a  MARKETING PL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Key Questions to ask at the Strategic Marketing level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 are we now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 do we want to go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do we allocate resources to get to where we want to go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do we convert our plans into action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do our results compare with our plans, and do deviations require new plans of action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Key Steps in the Marketing Pl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1 &amp; 2  A Situational Analysis &amp; SWOT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sks: What is the current situation with the market or the product?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here are many internal and external sources from which to draw this informa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he SWOT analysis is a key tool to determining the answer to: What is the current situation with the market or the product?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WOT Analys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 Strategic planning tool used to detect key opportuniti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nalysis of key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Internal Strengths (Within the orgs. control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Internal Weaknesses (Within the orgs. control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External Opportunities (Can be acted upon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External Threats ( Things to be watched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From the SWOT process plans can be made to build on/improve strengths, detect and fix weaknesses, seize opportunity, and be aware of potential threat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WOT Analys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838080" y="1828800"/>
            <a:ext cx="7620120" cy="4191120"/>
            <a:chOff x="838080" y="1828800"/>
            <a:chExt cx="7620120" cy="41911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rcRect l="32411" t="25232" r="12962" b="29364"/>
            <a:stretch/>
          </p:blipFill>
          <p:spPr>
            <a:xfrm>
              <a:off x="838080" y="1828800"/>
              <a:ext cx="762012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 txBox="1"/>
            <p:nvPr/>
          </p:nvSpPr>
          <p:spPr>
            <a:xfrm>
              <a:off x="838080" y="1828800"/>
              <a:ext cx="7620120" cy="4191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ec85e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WOT Analys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6114" t="37006" r="16666" b="24318"/>
          <a:stretch/>
        </p:blipFill>
        <p:spPr>
          <a:xfrm>
            <a:off x="914400" y="1905120"/>
            <a:ext cx="7315200" cy="32986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362320" y="5715000"/>
            <a:ext cx="4572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Want to read more about SWOT? Click her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Key Steps in the Marketing Pl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3 Set Marketing Objectiv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Marketing objectives must be clear, attainable and measurable target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Key objectives centre around Sales, Market Share and Customer satisfac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4 Develop a Strategy to achieve the marketing objectiv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Key strategies  centre around reducing cost or increasing revenu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Key Steps in the Marketing Pl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ypical Marketing strategies in order to increase revenu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Product Development: Develop a new product for an existing marke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arket Development: Enter a new market with an existing produc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arket Penetration:  Sell more of a current product to your existing marke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Diversification: Sell a new product to a new marke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Key Steps in the Marketing Pl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5 Adjust the Marketing Mix to suit the Strateg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Determine the best product, the best price, the best promotion and the best distribution methods to meet the objectiv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6 Set the Budge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Plan for the costs of implementing the strategy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7 Hire the right people for the job and assign their rol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rate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Strategy involves the planning and the execution of the planning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Strategic  planning is a process that plans for the Long-Term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Strategic planning can take place at two level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062720" indent="-2124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The Corporate Level - Strategic Corporate Plann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062720" indent="-212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The Product Level - Strategic Marketing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Key Steps in the Marketing Pl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8 Control the Strategy implementation and Evaluate the Strategies effectiveness in achieving the set objectiv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Sometimes, especially if the time from situational analysis to planning to implementation is long there will be a gap created into what is sold versus what could have been sold if the required changes (implementation) could have been made sooner.  This situation is known as the Planning Gap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cc"/>
                </a:solidFill>
                <a:latin typeface="Arial"/>
              </a:rPr>
              <a:t>Strategic Corporate Planning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rategic Corporate Plan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Steps taken at the corporate (top) level to develop long-run approaches to corporate survival and growth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Step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1. Define the corporate </a:t>
            </a: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Mission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-- What is it we do, to whom to we do it, How we do it and why we do i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rategic Corporate Plan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2. Set specific and measurable Goals &amp; </a:t>
            </a: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Objectives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, or targets to be met my the organizatio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hese objectives may include such things as Survival, Profit, Market Share, Social Responsibility, Shareholder value, Customer Valu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rategic Corporate Plan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sses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#1 - Where are we now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o are our 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Customer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at do we do well (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Competencie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)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at do we do better than anybody else? (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Competitive Advantage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o are our 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Competitor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rategic Corporate Plan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sses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#2 - Where do we want to go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oston Consulting Group Matrix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37739" t="22012" r="18867" b="25156"/>
          <a:stretch/>
        </p:blipFill>
        <p:spPr>
          <a:xfrm>
            <a:off x="2438280" y="2819520"/>
            <a:ext cx="4114800" cy="37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rategic Corporate Plan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sses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#2 - Where do we want to go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arket-Product Gri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25156" r="58491" b="22012"/>
          <a:stretch/>
        </p:blipFill>
        <p:spPr>
          <a:xfrm>
            <a:off x="1600200" y="3048120"/>
            <a:ext cx="6858000" cy="35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rategic Corporate Plan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eize Organizational Opportuniti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Key opportunities exist in fields where the organization is better than its competitors - so called Distinctive Competenci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he organization should attempt to seize opportunities in areas that not only is it better than its competitors in, but in areas where they will/can retain their advantage - so called Sustainable Competitive 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8T15:43:26Z</dcterms:created>
  <dc:creator>Debbie Vincent</dc:creator>
  <dc:description/>
  <dc:language>en-US</dc:language>
  <cp:lastModifiedBy>Paul Tilley</cp:lastModifiedBy>
  <dcterms:modified xsi:type="dcterms:W3CDTF">2004-09-15T12:36:42Z</dcterms:modified>
  <cp:revision>5</cp:revision>
  <dc:subject/>
  <dc:title>Marketing in the Organization: An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